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92ED5-4A0B-462A-A88E-1F8281A087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F712E-AED8-48EF-9039-B543388152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9B435-391E-4CEF-BEAD-BC306A5B78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2F9B6-3D2E-4602-9BED-F5CC31899C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031FA-9C64-43CB-9AC5-25778EA09C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4A7F6-2789-4FAE-ADFC-D586071FCB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06043-1B04-430F-97D4-609291FCA1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7D38E-DE9E-455D-92F0-428AC8E689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4B428-0893-4287-8336-A7E899BEB8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147AE-308D-485D-9026-B81B0E7764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CF664-E4FB-4CF9-9DAB-774A836555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5B917-A870-4463-A92B-B61286B6DF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80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223C5-5302-4EC4-A7B9-336690E6AD98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6489720"/>
            <a:ext cx="571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Thomson/South-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</a:t>
            </a: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0538972556_L" descr=""/>
          <p:cNvPicPr/>
          <p:nvPr/>
        </p:nvPicPr>
        <p:blipFill>
          <a:blip r:embed="rId2"/>
          <a:srcRect l="0" t="0" r="0" b="6180"/>
          <a:stretch/>
        </p:blipFill>
        <p:spPr>
          <a:xfrm>
            <a:off x="0" y="0"/>
            <a:ext cx="1033560" cy="1289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80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40224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46136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440" y="6489720"/>
            <a:ext cx="571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Thomson/South-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3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</a:t>
            </a: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0538972556_L" descr=""/>
          <p:cNvPicPr/>
          <p:nvPr/>
        </p:nvPicPr>
        <p:blipFill>
          <a:blip r:embed="rId2"/>
          <a:srcRect l="0" t="0" r="0" b="6180"/>
          <a:stretch/>
        </p:blipFill>
        <p:spPr>
          <a:xfrm>
            <a:off x="0" y="0"/>
            <a:ext cx="1033560" cy="12891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3399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3399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46136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SSON 6-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6319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Extending Financial Statement Information </a:t>
            </a:r>
            <a:br>
              <a:rPr sz="4000"/>
            </a:b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on a Work Shee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ING BALANCE SHEET ACCOUNT BALANCES ON A WORK SHE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C21_blue_0612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7924680" cy="3336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1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5129280"/>
            <a:ext cx="48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bit balances without adjust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5491080"/>
            <a:ext cx="48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bit balances with adjust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5851440"/>
            <a:ext cx="48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dit balances without adjust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7620120" y="3843360"/>
            <a:ext cx="1020600" cy="1587600"/>
            <a:chOff x="7620120" y="3843360"/>
            <a:chExt cx="1020600" cy="1587600"/>
          </a:xfrm>
        </p:grpSpPr>
        <p:grpSp>
          <p:nvGrpSpPr>
            <p:cNvPr id="97" name=""/>
            <p:cNvGrpSpPr/>
            <p:nvPr/>
          </p:nvGrpSpPr>
          <p:grpSpPr>
            <a:xfrm>
              <a:off x="7620120" y="3843360"/>
              <a:ext cx="821880" cy="1484280"/>
              <a:chOff x="7620120" y="3843360"/>
              <a:chExt cx="821880" cy="1484280"/>
            </a:xfrm>
          </p:grpSpPr>
          <p:sp>
            <p:nvSpPr>
              <p:cNvPr id="98" name=""/>
              <p:cNvSpPr/>
              <p:nvPr/>
            </p:nvSpPr>
            <p:spPr>
              <a:xfrm flipH="1">
                <a:off x="8259120" y="4138560"/>
                <a:ext cx="182520" cy="1189080"/>
              </a:xfrm>
              <a:custGeom>
                <a:avLst/>
                <a:gdLst/>
                <a:ahLst/>
                <a:rect l="l" t="t" r="r" b="b"/>
                <a:pathLst>
                  <a:path w="192" h="960">
                    <a:moveTo>
                      <a:pt x="192" y="0"/>
                    </a:moveTo>
                    <a:lnTo>
                      <a:pt x="0" y="0"/>
                    </a:lnTo>
                    <a:lnTo>
                      <a:pt x="0" y="9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20120" y="3843360"/>
                <a:ext cx="639720" cy="5936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8229600" y="501984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932520" y="1676520"/>
            <a:ext cx="1022400" cy="2163600"/>
            <a:chOff x="6932520" y="1676520"/>
            <a:chExt cx="1022400" cy="2163600"/>
          </a:xfrm>
        </p:grpSpPr>
        <p:grpSp>
          <p:nvGrpSpPr>
            <p:cNvPr id="102" name=""/>
            <p:cNvGrpSpPr/>
            <p:nvPr/>
          </p:nvGrpSpPr>
          <p:grpSpPr>
            <a:xfrm>
              <a:off x="6932520" y="1808280"/>
              <a:ext cx="813960" cy="2031840"/>
              <a:chOff x="6932520" y="1808280"/>
              <a:chExt cx="813960" cy="2031840"/>
            </a:xfrm>
          </p:grpSpPr>
          <p:sp>
            <p:nvSpPr>
              <p:cNvPr id="103" name=""/>
              <p:cNvSpPr/>
              <p:nvPr/>
            </p:nvSpPr>
            <p:spPr>
              <a:xfrm flipH="1" flipV="1">
                <a:off x="7571520" y="1808280"/>
                <a:ext cx="174600" cy="1822320"/>
              </a:xfrm>
              <a:custGeom>
                <a:avLst/>
                <a:gdLst/>
                <a:ahLst/>
                <a:rect l="l" t="t" r="r" b="b"/>
                <a:pathLst>
                  <a:path w="192" h="960">
                    <a:moveTo>
                      <a:pt x="192" y="0"/>
                    </a:moveTo>
                    <a:lnTo>
                      <a:pt x="0" y="0"/>
                    </a:lnTo>
                    <a:lnTo>
                      <a:pt x="0" y="9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932520" y="3429000"/>
                <a:ext cx="639720" cy="4111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 flipH="1">
              <a:off x="7543800" y="167652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6351480" y="2666880"/>
            <a:ext cx="1222560" cy="2764080"/>
            <a:chOff x="6351480" y="2666880"/>
            <a:chExt cx="1222560" cy="2764080"/>
          </a:xfrm>
        </p:grpSpPr>
        <p:sp>
          <p:nvSpPr>
            <p:cNvPr id="107" name=""/>
            <p:cNvSpPr/>
            <p:nvPr/>
          </p:nvSpPr>
          <p:spPr>
            <a:xfrm>
              <a:off x="6934320" y="2666880"/>
              <a:ext cx="639720" cy="7765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934320" y="4419720"/>
              <a:ext cx="639720" cy="2286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6351480" y="3048120"/>
              <a:ext cx="582840" cy="2382840"/>
              <a:chOff x="6351480" y="3048120"/>
              <a:chExt cx="582840" cy="2382840"/>
            </a:xfrm>
          </p:grpSpPr>
          <p:sp>
            <p:nvSpPr>
              <p:cNvPr id="110" name=""/>
              <p:cNvSpPr/>
              <p:nvPr/>
            </p:nvSpPr>
            <p:spPr>
              <a:xfrm>
                <a:off x="6568920" y="3048120"/>
                <a:ext cx="365400" cy="1481040"/>
              </a:xfrm>
              <a:custGeom>
                <a:avLst/>
                <a:gdLst/>
                <a:ahLst/>
                <a:rect l="l" t="t" r="r" b="b"/>
                <a:pathLst>
                  <a:path w="192" h="960">
                    <a:moveTo>
                      <a:pt x="192" y="0"/>
                    </a:moveTo>
                    <a:lnTo>
                      <a:pt x="0" y="0"/>
                    </a:lnTo>
                    <a:lnTo>
                      <a:pt x="0" y="960"/>
                    </a:lnTo>
                    <a:lnTo>
                      <a:pt x="192" y="9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568920" y="4343400"/>
                <a:ext cx="0" cy="838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6351480" y="5019840"/>
                <a:ext cx="411120" cy="41112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cc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-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D9E49-CFBF-421B-B392-BB03B0E8EB4C}" type="slidenum">
              <a:t>2</a:t>
            </a:fld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ENDING INCOME STATEMENT ACCOUNT BALANCES ON A WORK SH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C21_blue_0613" descr=""/>
          <p:cNvPicPr/>
          <p:nvPr/>
        </p:nvPicPr>
        <p:blipFill>
          <a:blip r:embed="rId1"/>
          <a:srcRect l="1781" t="0" r="1470" b="0"/>
          <a:stretch/>
        </p:blipFill>
        <p:spPr>
          <a:xfrm>
            <a:off x="457200" y="1447920"/>
            <a:ext cx="7924680" cy="35161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1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5129280"/>
            <a:ext cx="48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les bal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548640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nse balances without adjust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851440"/>
            <a:ext cx="48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nse balances with adjust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6570720" y="1523880"/>
            <a:ext cx="411120" cy="1524240"/>
            <a:chOff x="6570720" y="1523880"/>
            <a:chExt cx="411120" cy="1524240"/>
          </a:xfrm>
        </p:grpSpPr>
        <p:sp>
          <p:nvSpPr>
            <p:cNvPr id="120" name=""/>
            <p:cNvSpPr/>
            <p:nvPr/>
          </p:nvSpPr>
          <p:spPr>
            <a:xfrm flipV="1">
              <a:off x="6781680" y="1523880"/>
              <a:ext cx="1800" cy="1524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570720" y="152388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6248520" y="3540240"/>
            <a:ext cx="563400" cy="1582560"/>
            <a:chOff x="6248520" y="3540240"/>
            <a:chExt cx="563400" cy="1582560"/>
          </a:xfrm>
        </p:grpSpPr>
        <p:grpSp>
          <p:nvGrpSpPr>
            <p:cNvPr id="123" name=""/>
            <p:cNvGrpSpPr/>
            <p:nvPr/>
          </p:nvGrpSpPr>
          <p:grpSpPr>
            <a:xfrm>
              <a:off x="6248520" y="3540240"/>
              <a:ext cx="365040" cy="1523880"/>
              <a:chOff x="6248520" y="3540240"/>
              <a:chExt cx="365040" cy="1523880"/>
            </a:xfrm>
          </p:grpSpPr>
          <p:sp>
            <p:nvSpPr>
              <p:cNvPr id="124" name=""/>
              <p:cNvSpPr/>
              <p:nvPr/>
            </p:nvSpPr>
            <p:spPr>
              <a:xfrm flipH="1">
                <a:off x="6248520" y="3540240"/>
                <a:ext cx="365040" cy="1523880"/>
              </a:xfrm>
              <a:custGeom>
                <a:avLst/>
                <a:gdLst/>
                <a:ahLst/>
                <a:rect l="l" t="t" r="r" b="b"/>
                <a:pathLst>
                  <a:path w="192" h="960">
                    <a:moveTo>
                      <a:pt x="192" y="0"/>
                    </a:moveTo>
                    <a:lnTo>
                      <a:pt x="0" y="0"/>
                    </a:lnTo>
                    <a:lnTo>
                      <a:pt x="0" y="96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248520" y="4133880"/>
                <a:ext cx="365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>
              <a:off x="6400800" y="471168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5118120" y="2743200"/>
            <a:ext cx="571320" cy="1600200"/>
            <a:chOff x="5118120" y="2743200"/>
            <a:chExt cx="571320" cy="1600200"/>
          </a:xfrm>
        </p:grpSpPr>
        <p:grpSp>
          <p:nvGrpSpPr>
            <p:cNvPr id="128" name=""/>
            <p:cNvGrpSpPr/>
            <p:nvPr/>
          </p:nvGrpSpPr>
          <p:grpSpPr>
            <a:xfrm>
              <a:off x="5324400" y="2819520"/>
              <a:ext cx="365040" cy="1523880"/>
              <a:chOff x="5324400" y="2819520"/>
              <a:chExt cx="365040" cy="1523880"/>
            </a:xfrm>
          </p:grpSpPr>
          <p:sp>
            <p:nvSpPr>
              <p:cNvPr id="129" name=""/>
              <p:cNvSpPr/>
              <p:nvPr/>
            </p:nvSpPr>
            <p:spPr>
              <a:xfrm>
                <a:off x="5324400" y="2819520"/>
                <a:ext cx="365040" cy="1523880"/>
              </a:xfrm>
              <a:custGeom>
                <a:avLst/>
                <a:gdLst/>
                <a:ahLst/>
                <a:rect l="l" t="t" r="r" b="b"/>
                <a:pathLst>
                  <a:path w="96" h="1536">
                    <a:moveTo>
                      <a:pt x="96" y="1536"/>
                    </a:moveTo>
                    <a:lnTo>
                      <a:pt x="0" y="1536"/>
                    </a:lnTo>
                    <a:lnTo>
                      <a:pt x="0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>
                <a:off x="5324400" y="3956040"/>
                <a:ext cx="365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5324400" y="3352680"/>
                <a:ext cx="365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>
                <a:off x="5324400" y="3753000"/>
                <a:ext cx="365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5118120" y="274320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-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B3A34-ABF4-463D-BC98-2D035727BAD0}" type="slidenum">
              <a:t>3</a:t>
            </a:fld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15560" y="5124600"/>
            <a:ext cx="241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r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5200" y="5486400"/>
            <a:ext cx="190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4120" y="5851440"/>
            <a:ext cx="249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RDING NET INCOME, AND TOTALING AND RULING A WORK SHE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1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399040" y="5486400"/>
            <a:ext cx="331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d net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457200" y="1447920"/>
            <a:ext cx="7772400" cy="3123720"/>
            <a:chOff x="457200" y="1447920"/>
            <a:chExt cx="7772400" cy="3123720"/>
          </a:xfrm>
        </p:grpSpPr>
        <p:pic>
          <p:nvPicPr>
            <p:cNvPr id="141" name="C21_blue_0614" descr=""/>
            <p:cNvPicPr/>
            <p:nvPr/>
          </p:nvPicPr>
          <p:blipFill>
            <a:blip r:embed="rId1"/>
            <a:srcRect l="0" t="0" r="0" b="75938"/>
            <a:stretch/>
          </p:blipFill>
          <p:spPr>
            <a:xfrm>
              <a:off x="457200" y="1447920"/>
              <a:ext cx="7772400" cy="115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C21_blue_0614" descr=""/>
            <p:cNvPicPr/>
            <p:nvPr/>
          </p:nvPicPr>
          <p:blipFill>
            <a:blip r:embed="rId2"/>
            <a:srcRect l="0" t="60179" r="0" b="0"/>
            <a:stretch/>
          </p:blipFill>
          <p:spPr>
            <a:xfrm>
              <a:off x="457200" y="2664000"/>
              <a:ext cx="7772400" cy="190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"/>
          <p:cNvSpPr/>
          <p:nvPr/>
        </p:nvSpPr>
        <p:spPr>
          <a:xfrm>
            <a:off x="5633280" y="5486400"/>
            <a:ext cx="190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6248520" y="4495680"/>
            <a:ext cx="411120" cy="914400"/>
            <a:chOff x="6248520" y="4495680"/>
            <a:chExt cx="411120" cy="914400"/>
          </a:xfrm>
        </p:grpSpPr>
        <p:sp>
          <p:nvSpPr>
            <p:cNvPr id="145" name=""/>
            <p:cNvSpPr/>
            <p:nvPr/>
          </p:nvSpPr>
          <p:spPr>
            <a:xfrm>
              <a:off x="6453360" y="4495680"/>
              <a:ext cx="14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248520" y="499896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7620120" y="4495680"/>
            <a:ext cx="411120" cy="838080"/>
            <a:chOff x="7620120" y="4495680"/>
            <a:chExt cx="411120" cy="838080"/>
          </a:xfrm>
        </p:grpSpPr>
        <p:sp>
          <p:nvSpPr>
            <p:cNvPr id="148" name=""/>
            <p:cNvSpPr/>
            <p:nvPr/>
          </p:nvSpPr>
          <p:spPr>
            <a:xfrm>
              <a:off x="7824960" y="4495680"/>
              <a:ext cx="144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620120" y="492264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1371600" y="4191120"/>
            <a:ext cx="4038480" cy="1172880"/>
            <a:chOff x="1371600" y="4191120"/>
            <a:chExt cx="4038480" cy="1172880"/>
          </a:xfrm>
        </p:grpSpPr>
        <p:sp>
          <p:nvSpPr>
            <p:cNvPr id="151" name=""/>
            <p:cNvSpPr/>
            <p:nvPr/>
          </p:nvSpPr>
          <p:spPr>
            <a:xfrm>
              <a:off x="1371600" y="4191120"/>
              <a:ext cx="4038480" cy="914400"/>
            </a:xfrm>
            <a:custGeom>
              <a:avLst/>
              <a:gdLst/>
              <a:ahLst/>
              <a:rect l="l" t="t" r="r" b="b"/>
              <a:pathLst>
                <a:path w="2544" h="576">
                  <a:moveTo>
                    <a:pt x="0" y="48"/>
                  </a:moveTo>
                  <a:lnTo>
                    <a:pt x="1296" y="576"/>
                  </a:lnTo>
                  <a:lnTo>
                    <a:pt x="254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200400" y="495288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8153280" y="4267080"/>
            <a:ext cx="660600" cy="914400"/>
            <a:chOff x="8153280" y="4267080"/>
            <a:chExt cx="660600" cy="914400"/>
          </a:xfrm>
        </p:grpSpPr>
        <p:sp>
          <p:nvSpPr>
            <p:cNvPr id="154" name=""/>
            <p:cNvSpPr/>
            <p:nvPr/>
          </p:nvSpPr>
          <p:spPr>
            <a:xfrm>
              <a:off x="8153280" y="4267080"/>
              <a:ext cx="457200" cy="838440"/>
            </a:xfrm>
            <a:custGeom>
              <a:avLst/>
              <a:gdLst/>
              <a:ahLst/>
              <a:rect l="l" t="t" r="r" b="b"/>
              <a:pathLst>
                <a:path w="96" h="528">
                  <a:moveTo>
                    <a:pt x="0" y="0"/>
                  </a:moveTo>
                  <a:lnTo>
                    <a:pt x="96" y="0"/>
                  </a:lnTo>
                  <a:lnTo>
                    <a:pt x="96" y="52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402760" y="477036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8153280" y="2984400"/>
            <a:ext cx="660600" cy="1041480"/>
            <a:chOff x="8153280" y="2984400"/>
            <a:chExt cx="660600" cy="1041480"/>
          </a:xfrm>
        </p:grpSpPr>
        <p:sp>
          <p:nvSpPr>
            <p:cNvPr id="157" name=""/>
            <p:cNvSpPr/>
            <p:nvPr/>
          </p:nvSpPr>
          <p:spPr>
            <a:xfrm>
              <a:off x="8153280" y="3187800"/>
              <a:ext cx="457200" cy="838080"/>
            </a:xfrm>
            <a:custGeom>
              <a:avLst/>
              <a:gdLst/>
              <a:ahLst/>
              <a:rect l="l" t="t" r="r" b="b"/>
              <a:pathLst>
                <a:path w="240" h="528">
                  <a:moveTo>
                    <a:pt x="0" y="528"/>
                  </a:moveTo>
                  <a:lnTo>
                    <a:pt x="240" y="528"/>
                  </a:lnTo>
                  <a:lnTo>
                    <a:pt x="24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402760" y="298440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7620120" y="2971800"/>
            <a:ext cx="411120" cy="926640"/>
            <a:chOff x="7620120" y="2971800"/>
            <a:chExt cx="411120" cy="926640"/>
          </a:xfrm>
        </p:grpSpPr>
        <p:sp>
          <p:nvSpPr>
            <p:cNvPr id="160" name=""/>
            <p:cNvSpPr/>
            <p:nvPr/>
          </p:nvSpPr>
          <p:spPr>
            <a:xfrm>
              <a:off x="7824960" y="306036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620120" y="2971800"/>
              <a:ext cx="411120" cy="410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6081840" y="2819520"/>
            <a:ext cx="1385640" cy="1371600"/>
            <a:chOff x="6081840" y="2819520"/>
            <a:chExt cx="1385640" cy="1371600"/>
          </a:xfrm>
        </p:grpSpPr>
        <p:sp>
          <p:nvSpPr>
            <p:cNvPr id="163" name=""/>
            <p:cNvSpPr/>
            <p:nvPr/>
          </p:nvSpPr>
          <p:spPr>
            <a:xfrm>
              <a:off x="6081840" y="4191120"/>
              <a:ext cx="137160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6858000" y="2819520"/>
              <a:ext cx="609480" cy="1269000"/>
              <a:chOff x="6858000" y="2819520"/>
              <a:chExt cx="609480" cy="1269000"/>
            </a:xfrm>
          </p:grpSpPr>
          <p:sp>
            <p:nvSpPr>
              <p:cNvPr id="165" name=""/>
              <p:cNvSpPr/>
              <p:nvPr/>
            </p:nvSpPr>
            <p:spPr>
              <a:xfrm flipH="1" flipV="1">
                <a:off x="7010280" y="3021840"/>
                <a:ext cx="457200" cy="1066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858000" y="2819520"/>
                <a:ext cx="411120" cy="41076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cc00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"/>
          <p:cNvSpPr/>
          <p:nvPr/>
        </p:nvSpPr>
        <p:spPr>
          <a:xfrm>
            <a:off x="2401560" y="5851440"/>
            <a:ext cx="241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r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632560" y="5851440"/>
            <a:ext cx="251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uble r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-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C9AF3-DA01-427D-AD1C-A1D590FE5A3B}" type="slidenum">
              <a:t>4</a:t>
            </a:fld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ULATING AND RECORDING A NET LOSS ON A WORK SHE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C21_blue_0615" descr=""/>
          <p:cNvPicPr/>
          <p:nvPr/>
        </p:nvPicPr>
        <p:blipFill>
          <a:blip r:embed="rId1"/>
          <a:srcRect l="774" t="0" r="1228" b="0"/>
          <a:stretch/>
        </p:blipFill>
        <p:spPr>
          <a:xfrm>
            <a:off x="304920" y="1447920"/>
            <a:ext cx="7924680" cy="2501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16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5200" y="4483080"/>
            <a:ext cx="190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14480" y="4844880"/>
            <a:ext cx="213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 l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3400" y="5210280"/>
            <a:ext cx="295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d net l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-55440" y="4114800"/>
            <a:ext cx="303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ru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8001000" y="2666880"/>
            <a:ext cx="890640" cy="1706760"/>
            <a:chOff x="8001000" y="2666880"/>
            <a:chExt cx="890640" cy="1706760"/>
          </a:xfrm>
        </p:grpSpPr>
        <p:sp>
          <p:nvSpPr>
            <p:cNvPr id="177" name=""/>
            <p:cNvSpPr/>
            <p:nvPr/>
          </p:nvSpPr>
          <p:spPr>
            <a:xfrm>
              <a:off x="8001000" y="2666880"/>
              <a:ext cx="685800" cy="1447920"/>
            </a:xfrm>
            <a:custGeom>
              <a:avLst/>
              <a:gdLst/>
              <a:ahLst/>
              <a:rect l="l" t="t" r="r" b="b"/>
              <a:pathLst>
                <a:path w="432" h="912">
                  <a:moveTo>
                    <a:pt x="0" y="0"/>
                  </a:moveTo>
                  <a:lnTo>
                    <a:pt x="432" y="0"/>
                  </a:lnTo>
                  <a:lnTo>
                    <a:pt x="432" y="91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480520" y="396252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7772400" y="1828800"/>
            <a:ext cx="1119240" cy="685800"/>
            <a:chOff x="7772400" y="1828800"/>
            <a:chExt cx="1119240" cy="685800"/>
          </a:xfrm>
        </p:grpSpPr>
        <p:sp>
          <p:nvSpPr>
            <p:cNvPr id="180" name=""/>
            <p:cNvSpPr/>
            <p:nvPr/>
          </p:nvSpPr>
          <p:spPr>
            <a:xfrm>
              <a:off x="7772400" y="2057400"/>
              <a:ext cx="914400" cy="457200"/>
            </a:xfrm>
            <a:custGeom>
              <a:avLst/>
              <a:gdLst/>
              <a:ahLst/>
              <a:rect l="l" t="t" r="r" b="b"/>
              <a:pathLst>
                <a:path w="576" h="288">
                  <a:moveTo>
                    <a:pt x="0" y="288"/>
                  </a:moveTo>
                  <a:lnTo>
                    <a:pt x="0" y="0"/>
                  </a:lnTo>
                  <a:lnTo>
                    <a:pt x="576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480520" y="182880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1392120" y="2743200"/>
            <a:ext cx="3656160" cy="411120"/>
            <a:chOff x="1392120" y="2743200"/>
            <a:chExt cx="3656160" cy="411120"/>
          </a:xfrm>
        </p:grpSpPr>
        <p:sp>
          <p:nvSpPr>
            <p:cNvPr id="183" name=""/>
            <p:cNvSpPr/>
            <p:nvPr/>
          </p:nvSpPr>
          <p:spPr>
            <a:xfrm flipH="1">
              <a:off x="1392120" y="2971800"/>
              <a:ext cx="3656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971800" y="274320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5897160" y="2971800"/>
            <a:ext cx="1524240" cy="1401840"/>
            <a:chOff x="5897160" y="2971800"/>
            <a:chExt cx="1524240" cy="1401840"/>
          </a:xfrm>
        </p:grpSpPr>
        <p:sp>
          <p:nvSpPr>
            <p:cNvPr id="186" name=""/>
            <p:cNvSpPr/>
            <p:nvPr/>
          </p:nvSpPr>
          <p:spPr>
            <a:xfrm flipH="1">
              <a:off x="5897160" y="2971800"/>
              <a:ext cx="27468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934320" y="2971800"/>
              <a:ext cx="304560" cy="1219320"/>
            </a:xfrm>
            <a:custGeom>
              <a:avLst/>
              <a:gdLst/>
              <a:ahLst/>
              <a:rect l="l" t="t" r="r" b="b"/>
              <a:pathLst>
                <a:path w="96" h="768">
                  <a:moveTo>
                    <a:pt x="0" y="0"/>
                  </a:moveTo>
                  <a:lnTo>
                    <a:pt x="96" y="0"/>
                  </a:lnTo>
                  <a:lnTo>
                    <a:pt x="96" y="76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010280" y="396252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-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ACD12-3111-4FEB-85FB-531125DBE7E8}" type="slidenum">
              <a:t>5</a:t>
            </a:fld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MS RE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ance 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e 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 in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 l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16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-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74CB2-7264-44A8-86D3-F4EB746EA5AC}" type="slidenum">
              <a:t>6</a:t>
            </a:fld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6T23:26:17Z</dcterms:created>
  <dc:creator>M. C. McLaughlin</dc:creator>
  <dc:description/>
  <dc:language>en-US</dc:language>
  <cp:lastModifiedBy>M. C. McLaughlin</cp:lastModifiedBy>
  <dcterms:modified xsi:type="dcterms:W3CDTF">2005-04-22T18:01:59Z</dcterms:modified>
  <cp:revision>18</cp:revision>
  <dc:subject/>
  <dc:title>Lesson 6-1</dc:title>
</cp:coreProperties>
</file>